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74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3550680"/>
            <a:ext cx="7574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355068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400" y="355068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32280" y="160020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355068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32280" y="355068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93320" y="355068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79246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355068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52400" y="355068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3550680"/>
            <a:ext cx="7574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74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3550680"/>
            <a:ext cx="7574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355068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52400" y="355068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32280" y="160020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60020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355068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32280" y="355068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550680"/>
            <a:ext cx="24386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8960" y="0"/>
            <a:ext cx="792468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355068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400" y="355068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400" y="1600200"/>
            <a:ext cx="3696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3550680"/>
            <a:ext cx="757404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1" descr="fireworks-lr"/>
          <p:cNvPicPr/>
          <p:nvPr/>
        </p:nvPicPr>
        <p:blipFill>
          <a:blip r:embed="rId2"/>
          <a:stretch/>
        </p:blipFill>
        <p:spPr>
          <a:xfrm>
            <a:off x="0" y="0"/>
            <a:ext cx="1216080" cy="53341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32" descr="food safety overheads"/>
          <p:cNvPicPr/>
          <p:nvPr/>
        </p:nvPicPr>
        <p:blipFill>
          <a:blip r:embed="rId3"/>
          <a:stretch/>
        </p:blipFill>
        <p:spPr>
          <a:xfrm>
            <a:off x="76320" y="5410080"/>
            <a:ext cx="1523880" cy="12416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33"/>
          <p:cNvSpPr/>
          <p:nvPr/>
        </p:nvSpPr>
        <p:spPr>
          <a:xfrm>
            <a:off x="1523880" y="5943600"/>
            <a:ext cx="723924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34"/>
          <p:cNvSpPr/>
          <p:nvPr/>
        </p:nvSpPr>
        <p:spPr>
          <a:xfrm>
            <a:off x="1676520" y="594360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exually Transmitted Inf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35"/>
          <p:cNvSpPr/>
          <p:nvPr/>
        </p:nvSpPr>
        <p:spPr>
          <a:xfrm>
            <a:off x="6553080" y="55767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www.healthunit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0" descr="food safety overheads"/>
          <p:cNvPicPr/>
          <p:nvPr/>
        </p:nvPicPr>
        <p:blipFill>
          <a:blip r:embed="rId2"/>
          <a:stretch/>
        </p:blipFill>
        <p:spPr>
          <a:xfrm>
            <a:off x="76320" y="5410080"/>
            <a:ext cx="1523880" cy="1241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1"/>
          <p:cNvSpPr/>
          <p:nvPr/>
        </p:nvSpPr>
        <p:spPr>
          <a:xfrm>
            <a:off x="1523880" y="5943600"/>
            <a:ext cx="7239240" cy="685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2"/>
          <p:cNvSpPr/>
          <p:nvPr/>
        </p:nvSpPr>
        <p:spPr>
          <a:xfrm>
            <a:off x="1676520" y="592776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Sexually Transmitted Inf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3"/>
          <p:cNvSpPr/>
          <p:nvPr/>
        </p:nvSpPr>
        <p:spPr>
          <a:xfrm>
            <a:off x="6553080" y="557676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www.healthunit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476760" cy="51055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Narrow"/>
              </a:rPr>
              <a:t>Sexually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Narrow"/>
              </a:rPr>
              <a:t>Transmitted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Narrow"/>
              </a:rPr>
              <a:t>Infections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6600"/>
            </a:br>
            <a:r>
              <a:rPr b="1" lang="en-US" sz="6600" spc="-1" strike="noStrike">
                <a:solidFill>
                  <a:srgbClr val="ffffff"/>
                </a:solidFill>
                <a:latin typeface="Arial Narrow"/>
              </a:rPr>
              <a:t>(STIs)</a:t>
            </a:r>
            <a:br>
              <a:rPr sz="6600"/>
            </a:b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86" name="Picture 1030" descr="fireworks-lr"/>
          <p:cNvPicPr/>
          <p:nvPr/>
        </p:nvPicPr>
        <p:blipFill>
          <a:blip r:embed="rId1"/>
          <a:stretch/>
        </p:blipFill>
        <p:spPr>
          <a:xfrm>
            <a:off x="7696080" y="0"/>
            <a:ext cx="1447920" cy="53341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31"/>
          <p:cNvSpPr/>
          <p:nvPr/>
        </p:nvSpPr>
        <p:spPr>
          <a:xfrm>
            <a:off x="0" y="533412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Partner Notificat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o tell your partner(s) to prevent the spread of STI’s and to prevent complica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illegal not to disclose to a partner that you have a Viral STI.  If they contract an STI from you, they can file a law suit against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Narrow"/>
              </a:rPr>
              <a:t>Chlamydia</a:t>
            </a:r>
            <a:endParaRPr b="1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574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mon bacterial 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st number of infections found in people 15 to 24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reated, it can affect the cervix and urethra, and occasionally the rectum, throat and 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% ha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mptoms - men and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treated with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GONORRHEA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2nd most common bacterial 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in people aged 15 to 2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ffect the cervix, urethra, rectum, throat, and occasionally the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treated with 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ymptoms, especially in fem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GONORRHEA: 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Signs &amp; Symptom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10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creased vaginal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inful ur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ower abdominal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leeding after sex and betwee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in during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34040" y="1600200"/>
            <a:ext cx="3711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ick, yellowish-green discharge from p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ainful ur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esticular pain or sw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ctal pain, discharge or 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YPHILI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74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cterial infection that progresses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rimar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(3 days – 3 months) starts as a small, painless sore called a chancre; goes away on it’s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econdary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(2 – 24 weeks) rash on the body, palms of hands &amp; soles of feet, hair loss, feeling s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Laten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: lesions or rashes can re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YPHILIS - 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Complica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74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treated syphilis may lead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ertiary syphil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ch can dam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ardiovascular system (heart &amp; blood vess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neurologica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ther major organs of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mplications may lead to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Genital Herpe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Herpes Simplex Virus - HSV)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574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: HSV-1, causing cold sores, and HSV-2, causing genital her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viral infection causing outbreaks of painful sores and blis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through direct vaginal, oral or anal sexual contact with an infected part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transmitted by receiving oral sex from a partner with a history of cold s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mp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treated with antiviral medications, but NO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Genital Herpes – </a:t>
            </a: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Signs &amp; Symptom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574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 to an outbreak, the person may feel a tingling or burning sensation where the virus first entered 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nful sores (external or inter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lammation and r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cular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er lymph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epatitis B (HBV)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us that attacks the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fected people (90%) naturally produce antibodies to fight the disease, but some develop chronic HBV and will carry the virus for the rest of their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ic infection can lead to liver damage, cirrhosis, and c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CURE, but vaccination can prevent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epatitis B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oman suffering from liver cancer caused by HBV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6" name="Picture 3" descr="H:\Clinical services\STD's\pictures\hepB - liver cancer.jpg"/>
          <p:cNvPicPr/>
          <p:nvPr/>
        </p:nvPicPr>
        <p:blipFill>
          <a:blip r:embed="rId1"/>
          <a:stretch/>
        </p:blipFill>
        <p:spPr>
          <a:xfrm>
            <a:off x="1600200" y="1676520"/>
            <a:ext cx="2793960" cy="3657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572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Photo courtesy of Patricia Walker, M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676520"/>
            <a:ext cx="25909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2952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Narrow"/>
              </a:rPr>
              <a:t>Overview</a:t>
            </a:r>
            <a:endParaRPr b="1" lang="en-US" sz="5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7574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of STIs: “What are they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: “How are they spread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Types of infec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l (Chlamydia, LGV, Gonorrhea, Syphil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 (HSV, Hepatitis B, HIV, HP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(Pubic lice, scabies, trichomonia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ention: “How can I protect myself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: “Where can I go for help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Human Papilloma Virus or HPV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Narrow"/>
              </a:rPr>
              <a:t>(Genital Warts)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574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most common S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75% of people will have at least one HPV infection during their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types of HP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risk HPV types cause genital w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risk HPV types may cause cancer of the cerv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CURE, but vaccination is available to prevent certain types of HP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80880" y="210960"/>
            <a:ext cx="84963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d5cb9"/>
                </a:solidFill>
                <a:latin typeface="Arial Narrow"/>
              </a:rPr>
              <a:t>SEXUALLY TRANSMITTED STIs:</a:t>
            </a:r>
            <a:br>
              <a:rPr sz="4000"/>
            </a:br>
            <a:r>
              <a:rPr b="1" lang="en-US" sz="4000" spc="-1" strike="noStrike">
                <a:solidFill>
                  <a:srgbClr val="2d5cb9"/>
                </a:solidFill>
                <a:latin typeface="Arial Narrow"/>
              </a:rPr>
              <a:t>PARASITIC (CURABL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80880" y="1351080"/>
            <a:ext cx="73915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4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1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ic Lic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1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1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1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Scab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1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144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1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048120" y="4216320"/>
            <a:ext cx="486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aused by a parasite that is usually sexually transmitted, but it can survive 24 hours on wet towels and bathing s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"/>
          <p:cNvPicPr/>
          <p:nvPr/>
        </p:nvPicPr>
        <p:blipFill>
          <a:blip r:embed="rId1"/>
          <a:stretch/>
        </p:blipFill>
        <p:spPr>
          <a:xfrm>
            <a:off x="1143000" y="1787400"/>
            <a:ext cx="1219320" cy="5796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3048120" y="1200240"/>
            <a:ext cx="4876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aused by tiny wingless insects known as crabs. The lice attach their eggs to the pubic hair and feed on human blo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Content Placeholder 3"/>
          <p:cNvSpPr/>
          <p:nvPr/>
        </p:nvSpPr>
        <p:spPr>
          <a:xfrm>
            <a:off x="3048120" y="2502000"/>
            <a:ext cx="487656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69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d by the itch mite.  It burrows just under the skin and lays eggs.  The scabies mite can live for 2-4 days away from the human body; therefore it can be transmitted without sexual conta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320760" y="4286160"/>
            <a:ext cx="2590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3313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chomoni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1600200" y="3116160"/>
            <a:ext cx="690480" cy="7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Parasitic STI’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(dorms, pool, gyms, mats)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>
              <a:lnSpc>
                <a:spcPct val="70000"/>
              </a:lnSpc>
              <a:tabLst>
                <a:tab algn="l" pos="0"/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mpto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nse itchi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dish ras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in during sex or pee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ginal dischar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tabLst>
                <a:tab algn="l" pos="0"/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tabLst>
                <a:tab algn="l" pos="0"/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tabLst>
                <a:tab algn="l" pos="0"/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d5cb9"/>
                </a:solidFill>
                <a:latin typeface="Arial"/>
              </a:rPr>
              <a:t>HOW ARE PARASITIC STIs TREAT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mpo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in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spcBef>
                <a:spcPts val="55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tibio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70000"/>
              </a:lnSpc>
              <a:tabLst>
                <a:tab algn="l" pos="0"/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>
              <a:lnSpc>
                <a:spcPct val="8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2327400"/>
                <a:tab algn="l" pos="2600280"/>
                <a:tab algn="l" pos="2873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ondom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Used Correctly Reduce Risk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371240" y="2209320"/>
            <a:ext cx="757404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st way to reduce the risk of transmitting STI’s is condom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l Skin condoms do no provide protection from STI’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What can I do so I don’t get an STI?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bstinence – do not have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ginal, oral or a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ondoms (Good but not complete prot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Few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Low Risk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Lifetime relationship with uninfec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 (both faithfu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Get Che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Remember….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71240" y="1600200"/>
            <a:ext cx="75740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sex with someone, you are having sex with everyone they have had sex with; and everyone they had sex with; and so on, and so on, and so o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TRANSMISSION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transmission to occur, it is necessary to h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body fluid with the germ i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 way of spreading the germ from one person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Facts About STI’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US and around the world, the trend is clear: sexually transmitted infections are on the r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e highest rates are in young people ages 15-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 and education is key to staying disease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exually Transmitted Infection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600200"/>
            <a:ext cx="75740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ections that are most commonly passed through sexual contact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g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-to-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BODY FLUIDS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onsidered Highly Infectious 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04960" y="1981080"/>
            <a:ext cx="3709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ginal fl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METHODS OF TRANSMISSION: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Low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Risk or </a:t>
            </a:r>
            <a:r>
              <a:rPr b="1" i="1" lang="en-US" sz="4000" spc="-1" strike="noStrike">
                <a:solidFill>
                  <a:srgbClr val="ffffff"/>
                </a:solidFill>
                <a:latin typeface="Arial Narrow"/>
              </a:rPr>
              <a:t>No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Risk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10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b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u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Ki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olding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a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itting on toi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34040" y="1599840"/>
            <a:ext cx="3711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aring lip b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tual monoga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aring forks, kniv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METHODS OF TRANSMISSION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 Narrow"/>
              </a:rPr>
              <a:t>High Risk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599840"/>
            <a:ext cx="7574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xual Intercou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a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lood-to-blood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haring needles or other drug-us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attoo or body pier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fected mother to her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8960" y="0"/>
            <a:ext cx="7924680" cy="1447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Bacterial vs. Viral STI’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37101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l STI’s include Chlamydia, gonorrhea &amp; syphil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treated and cured with antibi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reated infection can cause PI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lvic Inflamatory Diseas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fert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34040" y="1600200"/>
            <a:ext cx="3711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al STI’s include HPV, HIV, Herpes, &amp; Hepatitis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tion available to tre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mpto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ass onto others for the rest of you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02:52:36Z</dcterms:created>
  <dc:creator>Nathan Bakker</dc:creator>
  <dc:description/>
  <dc:language>en-US</dc:language>
  <cp:lastModifiedBy>Daly Dominguez</cp:lastModifiedBy>
  <cp:lastPrinted>2004-11-12T03:32:55Z</cp:lastPrinted>
  <dcterms:modified xsi:type="dcterms:W3CDTF">2016-10-28T19:29:04Z</dcterms:modified>
  <cp:revision>96</cp:revision>
  <dc:subject/>
  <dc:title>Sexually Transmitted Infections (STI)</dc:title>
</cp:coreProperties>
</file>